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6DE-E3CA-49C7-96C5-8BA6FBDC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793-9AB1-4C97-B6E5-B04B6CFB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CAF-1D8D-48AF-B536-954476B7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07A-6DA9-4E78-89A7-49B924FF3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2476-FE36-4EC1-91B8-9A6B9D88E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1D14-2B43-44D8-B5C5-40512808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8070-864F-466E-8430-15347BBB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387B-4D12-4F5D-82A7-5D7857D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259E-4FE4-462E-93CE-2DDA02FD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EA2F-A54F-4089-BC06-3A4FD555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0925-E299-467B-A0F0-AF60114B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13D-0EA0-4678-8BFD-B26C58C2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25A3-87DD-47CB-A622-77550231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2B67-AF36-450E-834C-06CE6FC6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C1F6-2DFF-499B-B039-1B22F1A0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4162-C4DF-441A-BDC2-C5846ECD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D2CFE-7BEE-4255-BB6D-065D14A3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4911-4086-4084-9342-37C3D5C99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0ABF-7003-4296-924E-418665DF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AC66-65EA-461E-A1DB-4365313E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E1D-156D-4EA1-87FA-AEB28CE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B434-041D-44D1-8104-3CEDF06A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CF1-C631-4712-9C20-7827CCB2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0F2A-0A51-46E6-81F3-DA8C70E1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8CFA-FBB9-4AA2-A282-5265E1D1D9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68AD-20DB-4B4C-8D52-1EB325A12B3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Papyrus"/>
              </a:rPr>
              <a:t>What is Your True Nature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Is mankind inherently evil as suggested by William Golding in his novel,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Papyrus"/>
              </a:rPr>
              <a:t>Lord of the Fl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Papyrus"/>
              </a:rPr>
              <a:t>Unit Summar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We will investigate how an author’s use of literary elements such as theme, setting, characterization and conflict affect your attitude toward the novel and the charact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We will look at the  role that your own prior experiences play in your interpretation of the nove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We will improve your ability to adhere to the standard conventions of the English 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pyrus"/>
              </a:rPr>
              <a:t>We will try to answer the age old question: Is man inherently evil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Papyrus"/>
              </a:rPr>
              <a:t>How will we do this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Read the novel, T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Papyrus"/>
              </a:rPr>
              <a:t>he Lord of the F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Debate the goodness versus the evil in the charac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Persuade others to agree with which characters you feel is evil and who is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Hold a mock trial in which we put the evil character(s) on 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Papyrus"/>
              </a:rPr>
              <a:t>How will you be assessed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Daily participation: wiki, journals, conferences, self assessment checkl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Use of the writing process to assist in adherence to standard conventions of the English langu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Final Project: Mock Tr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Papyrus"/>
              </a:rPr>
              <a:t>Why does this matter?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Writing skills are a necessary tool that you will need for the rest of your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This is your chance to use a school assignment to share your personal experiences and opinions and try to influence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apyrus"/>
              </a:rPr>
              <a:t>Many of these skills will help to improve your grades on upcoming regents such as Global 10, US History and English 1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Papyru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05:54Z</dcterms:created>
  <dc:creator>Eldred Central School</dc:creator>
  <dc:description/>
  <dc:language>en-US</dc:language>
  <cp:lastModifiedBy>Eldred Central School</cp:lastModifiedBy>
  <dcterms:modified xsi:type="dcterms:W3CDTF">2010-06-30T18:27:59Z</dcterms:modified>
  <cp:revision>2</cp:revision>
  <dc:subject/>
  <dc:title>What is Your True Nature?</dc:title>
</cp:coreProperties>
</file>